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D384-DE9B-4B00-96C2-F54F7341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C4DD-7F81-46B3-8877-31F86A3A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7911-B59F-4103-9056-D3C218AA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7989-B031-45DF-9D4F-46CF3D0B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0E43-93AD-4369-BE9E-DE514078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196E-DEF1-4D0E-AB87-D8ECB3A5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8BE4-70B8-4A9E-9770-A321413A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4793-BE8A-4139-978E-290FB4B0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8680-B56F-4ED4-996F-78FB1F4B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3AFF-1D11-40A3-9B79-C45D7E2F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297AF-98CB-40EF-9326-F4B8B798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5895-7B6A-42EA-8481-417A723D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0E50-D706-40A5-8CB8-EF5CE2B22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5, 200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46A8-321E-458D-895B-6B862628D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tober 5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C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xas Nodal Program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erry Sullivan, Executive Directo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rket Readiness – 3 Month Planning Horiz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367320" y="173160"/>
            <a:ext cx="2718000" cy="417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984320" y="5919840"/>
            <a:ext cx="531684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EDS1-related metrics for Telemetry and ICCP measuring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90520" y="3871800"/>
          <a:ext cx="8591400" cy="2022480"/>
        </p:xfrm>
        <a:graphic>
          <a:graphicData uri="http://schemas.openxmlformats.org/drawingml/2006/table">
            <a:tbl>
              <a:tblPr/>
              <a:tblGrid>
                <a:gridCol w="1295280"/>
                <a:gridCol w="729612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personn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DAL Delivery Te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d 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S Project Managers and Market Readiness Team using “Red / Amber / Green” rules as defined in met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orecard Avai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etry and ICCP metrics available in Octo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295200" y="814320"/>
          <a:ext cx="6114960" cy="2868840"/>
        </p:xfrm>
        <a:graphic>
          <a:graphicData uri="http://schemas.openxmlformats.org/drawingml/2006/table">
            <a:tbl>
              <a:tblPr/>
              <a:tblGrid>
                <a:gridCol w="1305000"/>
                <a:gridCol w="4809960"/>
              </a:tblGrid>
              <a:tr h="600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DAL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ly Measu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etry Alarm Proces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etry / ICCP System Fail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ED Exec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ED Qu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idate Security Analysis Res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e Estimator Performance and Accur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6418440" y="190440"/>
            <a:ext cx="547560" cy="36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1A7D-0716-4A32-B17E-A4E30790909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rket Readiness – 3 Month Planning Horiz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367320" y="173160"/>
            <a:ext cx="2718000" cy="4172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445400" y="5919840"/>
            <a:ext cx="648864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New ERCOT Engagement metric parallels Market Participant Engagement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10960" y="863640"/>
          <a:ext cx="6113520" cy="2894040"/>
        </p:xfrm>
        <a:graphic>
          <a:graphicData uri="http://schemas.openxmlformats.org/drawingml/2006/table">
            <a:tbl>
              <a:tblPr/>
              <a:tblGrid>
                <a:gridCol w="1590840"/>
                <a:gridCol w="4522680"/>
              </a:tblGrid>
              <a:tr h="573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RCOT Read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ly Measu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Training (EDS 1 &amp;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 NODAL Operating Gu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Staffed for NODAL ope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dure 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Training (EDS 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19240" y="4000680"/>
          <a:ext cx="8534160" cy="1703160"/>
        </p:xfrm>
        <a:graphic>
          <a:graphicData uri="http://schemas.openxmlformats.org/drawingml/2006/table">
            <a:tbl>
              <a:tblPr/>
              <a:tblGrid>
                <a:gridCol w="1566720"/>
                <a:gridCol w="6967440"/>
              </a:tblGrid>
              <a:tr h="56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Readiness Team (E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d 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T and Market Readiness Team using “Red / Amber / Green” rules as defined in met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orecard Avai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 ERCOT Readiness metrics available in Octo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7095960" y="198360"/>
            <a:ext cx="547920" cy="36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8798-0183-4443-AE54-721B200B4E5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rket Readiness – 3 Month Planning Horiz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367320" y="173160"/>
            <a:ext cx="2718000" cy="4172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79520" y="5919840"/>
            <a:ext cx="81882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Five of six Market Participant metrics GREEN.  YELLOW Engagement metric measured again in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07320" y="198360"/>
            <a:ext cx="547560" cy="36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2280" y="743040"/>
          <a:ext cx="6919920" cy="3168360"/>
        </p:xfrm>
        <a:graphic>
          <a:graphicData uri="http://schemas.openxmlformats.org/drawingml/2006/table">
            <a:tbl>
              <a:tblPr/>
              <a:tblGrid>
                <a:gridCol w="1590840"/>
                <a:gridCol w="5329080"/>
              </a:tblGrid>
              <a:tr h="595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Participant Read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ly Measu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Participant Engag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ectivity to EDS Enviro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s with Resources Upload SCED to E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CCP Point to Point Telemetry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 and TSP Telemetry / ICCP System Avai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ration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S2 Market Trials Partici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Participant Engagement (2nd Surve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S3-Related Market Participant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62000" y="3986280"/>
          <a:ext cx="8724960" cy="1893600"/>
        </p:xfrm>
        <a:graphic>
          <a:graphicData uri="http://schemas.openxmlformats.org/drawingml/2006/table">
            <a:tbl>
              <a:tblPr/>
              <a:tblGrid>
                <a:gridCol w="1566720"/>
                <a:gridCol w="715824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Client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DAL Delivery Te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d 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Client Services and Market Readiness Team using “Red / Amber / Green” rules as defined in met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orecard Avai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Participant engagement currently reported in Scorec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 will follow in Octo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6050-AC96-49A5-8149-BCDC471D3DB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066680"/>
          <a:ext cx="8229600" cy="2217960"/>
        </p:xfrm>
        <a:graphic>
          <a:graphicData uri="http://schemas.openxmlformats.org/drawingml/2006/table">
            <a:tbl>
              <a:tblPr/>
              <a:tblGrid>
                <a:gridCol w="3814920"/>
                <a:gridCol w="1382400"/>
                <a:gridCol w="3032280"/>
              </a:tblGrid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Program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ry Sulli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Schedule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ry Sulli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Readi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ry Sulli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 NODAL Market Readi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ry Sulli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4FFC-93C4-432C-B8AF-1A64B843013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570640" y="111240"/>
            <a:ext cx="3433680" cy="528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verall Program Status Remains Amber 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7240" y="2212920"/>
            <a:ext cx="9007200" cy="4041360"/>
            <a:chOff x="57240" y="2212920"/>
            <a:chExt cx="9007200" cy="4041360"/>
          </a:xfrm>
        </p:grpSpPr>
        <p:sp>
          <p:nvSpPr>
            <p:cNvPr id="97" name=""/>
            <p:cNvSpPr/>
            <p:nvPr/>
          </p:nvSpPr>
          <p:spPr>
            <a:xfrm>
              <a:off x="6359400" y="2212920"/>
              <a:ext cx="2705040" cy="4041360"/>
            </a:xfrm>
            <a:prstGeom prst="rect">
              <a:avLst/>
            </a:prstGeom>
            <a:solidFill>
              <a:srgbClr val="739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25920" y="2212920"/>
              <a:ext cx="2705040" cy="4041360"/>
            </a:xfrm>
            <a:prstGeom prst="rect">
              <a:avLst/>
            </a:prstGeom>
            <a:solidFill>
              <a:srgbClr val="739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880" y="2212920"/>
              <a:ext cx="2705040" cy="4041360"/>
            </a:xfrm>
            <a:prstGeom prst="rect">
              <a:avLst/>
            </a:prstGeom>
            <a:solidFill>
              <a:srgbClr val="739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cope / Qual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240" y="4970880"/>
              <a:ext cx="9007200" cy="1166040"/>
            </a:xfrm>
            <a:prstGeom prst="rect">
              <a:avLst/>
            </a:prstGeom>
            <a:solidFill>
              <a:srgbClr val="a6c0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2880" y="5297760"/>
              <a:ext cx="8791560" cy="254880"/>
            </a:xfrm>
            <a:prstGeom prst="rect">
              <a:avLst/>
            </a:prstGeom>
            <a:solidFill>
              <a:srgbClr val="cc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0" y="3139920"/>
              <a:ext cx="9007200" cy="1789920"/>
            </a:xfrm>
            <a:prstGeom prst="rect">
              <a:avLst/>
            </a:prstGeom>
            <a:solidFill>
              <a:srgbClr val="a6c0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m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85680" y="2724480"/>
              <a:ext cx="1140120" cy="364680"/>
            </a:xfrm>
            <a:prstGeom prst="rect">
              <a:avLst/>
            </a:prstGeom>
            <a:solidFill>
              <a:srgbClr val="008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9400" y="3324600"/>
              <a:ext cx="2698920" cy="14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60480"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ditional costs (Integration, Release Management, MMS, BL 1 &amp; 2, and Internal Allocation) exceeding existing contingen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60480"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is about $10 million over $263 million budget.  Budget Reviews are being conducted to reduce cos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32200" y="2724480"/>
              <a:ext cx="2182680" cy="36468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80160" y="2724480"/>
              <a:ext cx="2182680" cy="36468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0880" y="3218400"/>
              <a:ext cx="1269720" cy="16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60480"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rrently fully aligned with protocol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2880" y="5297760"/>
              <a:ext cx="555840" cy="254880"/>
            </a:xfrm>
            <a:prstGeom prst="rect">
              <a:avLst/>
            </a:prstGeom>
            <a:solidFill>
              <a:srgbClr val="cc0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2880" y="5576040"/>
              <a:ext cx="555840" cy="25488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mb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2880" y="5855400"/>
              <a:ext cx="555840" cy="228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re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1160" y="5855400"/>
              <a:ext cx="8423280" cy="254880"/>
            </a:xfrm>
            <a:prstGeom prst="rect">
              <a:avLst/>
            </a:prstGeom>
            <a:solidFill>
              <a:srgbClr val="0099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8200" y="5576040"/>
              <a:ext cx="8796240" cy="254880"/>
            </a:xfrm>
            <a:prstGeom prst="rect">
              <a:avLst/>
            </a:prstGeom>
            <a:solidFill>
              <a:srgbClr val="ff993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96200" y="5860440"/>
              <a:ext cx="2466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3280" indent="-233280"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stimate at Complete = &lt;$263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96200" y="5576040"/>
              <a:ext cx="2466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3280" indent="-233280"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stimate at Complete = &lt; $263m + 1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37320" y="5291640"/>
              <a:ext cx="21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3280" indent="-233280"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stimate at Complete = &gt;$263m + 1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6360" y="5870160"/>
              <a:ext cx="2182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3280" indent="-233280"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o-live = 12/1/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17800" y="5586120"/>
              <a:ext cx="2183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3280" indent="-233280"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o-live = &lt;30 days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19600" y="5301360"/>
              <a:ext cx="2182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3280" indent="-233280"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o-live = &gt;30 days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20880" y="5811480"/>
              <a:ext cx="133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gram is aligned with current protoco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4840" y="5535000"/>
              <a:ext cx="150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gram is aligned to previous protocol ver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49320" y="5252400"/>
              <a:ext cx="127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gram is not aligned to protoco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47880" y="3324600"/>
              <a:ext cx="2664000" cy="14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60480"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rrent EDS 1-3 milestones being achieved and are on track. On track to achieve near-term mileston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60480"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DS 4 milestones are still at risk due to MMS schedule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52520" y="2724480"/>
              <a:ext cx="1139760" cy="36468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90600" y="3139920"/>
              <a:ext cx="0" cy="2980080"/>
            </a:xfrm>
            <a:prstGeom prst="line">
              <a:avLst/>
            </a:prstGeom>
            <a:ln w="936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43080" y="5248800"/>
              <a:ext cx="151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rrent product quality is not sufficient for Nodal laun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82600" y="5530320"/>
              <a:ext cx="16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st Nodal products currently achieve quality standar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82600" y="5811480"/>
              <a:ext cx="163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ll Nodal products currently achieve quality standar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28760" y="3220200"/>
              <a:ext cx="1397160" cy="16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60480"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ificant design issues still open with MMS solution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60480"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% Success Rate in EDS3 R5 “SCED Testing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60480"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A plans for EMS, MMS, OS in for 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603760" y="154080"/>
            <a:ext cx="760680" cy="45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019400" y="771480"/>
            <a:ext cx="1823760" cy="1375920"/>
            <a:chOff x="4019400" y="771480"/>
            <a:chExt cx="1823760" cy="137592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019400" y="771480"/>
              <a:ext cx="1823760" cy="13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087080" y="1790640"/>
              <a:ext cx="406080" cy="204120"/>
            </a:xfrm>
            <a:prstGeom prst="rect">
              <a:avLst/>
            </a:prstGeom>
            <a:solidFill>
              <a:srgbClr val="d1d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ope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69400" y="1612440"/>
              <a:ext cx="406080" cy="203400"/>
            </a:xfrm>
            <a:prstGeom prst="rect">
              <a:avLst/>
            </a:prstGeom>
            <a:solidFill>
              <a:srgbClr val="d1d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93680" y="911520"/>
              <a:ext cx="396000" cy="216000"/>
            </a:xfrm>
            <a:prstGeom prst="rect">
              <a:avLst/>
            </a:prstGeom>
            <a:solidFill>
              <a:srgbClr val="d1d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66400" y="1484640"/>
              <a:ext cx="273240" cy="204120"/>
            </a:xfrm>
            <a:prstGeom prst="rect">
              <a:avLst/>
            </a:prstGeom>
            <a:solidFill>
              <a:srgbClr val="d1d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Arial"/>
                </a:rPr>
                <a:t>Nod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6A9D-BE35-4084-9154-FCE70E5A602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actical deliverables and ac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4760" y="784080"/>
          <a:ext cx="8829720" cy="5349960"/>
        </p:xfrm>
        <a:graphic>
          <a:graphicData uri="http://schemas.openxmlformats.org/drawingml/2006/table">
            <a:tbl>
              <a:tblPr/>
              <a:tblGrid>
                <a:gridCol w="190440"/>
                <a:gridCol w="1641600"/>
                <a:gridCol w="6997680"/>
              </a:tblGrid>
              <a:tr h="30708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tion/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996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rking with vendor to improve confidence in MMS schedule deliveries; EDS 4 still at risk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design issues for the 11/30/07 release have been addressed with vendor; approximately 50 open design issues still being negotiat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rcial implications still pending for remaining MMS deliverables; 10/31/07 planned comple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rd iteration of mutual detailed plan to be delivered this week for review and validation by ERCO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rking with other Nodal teams to ensure EDS 4 can start on schedule (early involvement from integration and testin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11253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399960" indent="-399960"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:  6/4/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:   Revised to 10/15/07 for 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1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evised to 11/15/07 for 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in achieving the milestone is High: 95% complete with P2P, with 4% error rat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QSEs will be completed and tested by 10/1/07, except for Austin Energy (currently upgrading their EMS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 to regression test quality code correction with MPs in early Octobe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ICCP Fail-over scheduled for this week and nex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2 State Estimator and Teleme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:   9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:    12/31/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2 R 3, SE tuning activities started on 9/7 as plann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P estimation to be reconfigured / software corrected by end of EDS 2 Release 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required in State Estimator Tuning; drafting a SOW for AREVA resource to hel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of QSEs ICCP feeds to Nodal are not active; working with QSEs one-on-one to resolve issues by 10/1/0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125460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3 EMS interfacing with SC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:   8/24/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:    7/15/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achieving the milesto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1/1) is Medium (EMS to MMS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 functional project team working to complete build and conduct end to end testing – progress being made via concentrated tea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of SCED reports, confidence is medium for 11/1/07 – MIS team working with EMS, MMS and EIP to ensure delivery of reports. Working toward early environment shakeout to improve confiden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consolidated list of data elements, assigning responsible parties for delivery (Network Model, Registration, EMS, MMS); will probably require ongoing effort to finalize dat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ting functionality to support ICCP handbook – ERCOT to QSEs (Hub and Zone LMPs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2 R4 NMMS NOM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:  11/1/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:   3/31/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achieving the milesto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Medium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known challenges (data reconciliation and validation, AREVA load capabilities, MP availability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1c delivery at end of September 2007 being pushed to Mid-October; Defining testing approach to leverage system functionality in the order it’s deliver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Hardware for NMMS purchased, ready 10/1/0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"/>
          <p:cNvGrpSpPr/>
          <p:nvPr/>
        </p:nvGrpSpPr>
        <p:grpSpPr>
          <a:xfrm>
            <a:off x="7670880" y="23760"/>
            <a:ext cx="1116000" cy="816120"/>
            <a:chOff x="7670880" y="23760"/>
            <a:chExt cx="1116000" cy="8161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7670880" y="23760"/>
              <a:ext cx="111600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712280" y="628200"/>
              <a:ext cx="248400" cy="120960"/>
            </a:xfrm>
            <a:prstGeom prst="rect">
              <a:avLst/>
            </a:prstGeom>
            <a:solidFill>
              <a:srgbClr val="d1d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cope/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7080" y="522360"/>
              <a:ext cx="248400" cy="120600"/>
            </a:xfrm>
            <a:prstGeom prst="rect">
              <a:avLst/>
            </a:prstGeom>
            <a:solidFill>
              <a:srgbClr val="d1d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83440" y="106560"/>
              <a:ext cx="242280" cy="128160"/>
            </a:xfrm>
            <a:prstGeom prst="rect">
              <a:avLst/>
            </a:prstGeom>
            <a:solidFill>
              <a:srgbClr val="d1d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st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28080" y="446760"/>
              <a:ext cx="167040" cy="120960"/>
            </a:xfrm>
            <a:prstGeom prst="rect">
              <a:avLst/>
            </a:prstGeom>
            <a:solidFill>
              <a:srgbClr val="d1d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0000"/>
                  </a:solidFill>
                  <a:latin typeface="Arial"/>
                </a:rPr>
                <a:t>Nodal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0000"/>
                  </a:solidFill>
                  <a:latin typeface="Arial"/>
                </a:rPr>
                <a:t>Deliver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D864-04C6-49E1-8BBC-57ECAC1D833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adiness Reporting Concep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will report several readiness metr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-September kick-off with ERCOT offic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analyzing ERCOT readiness self-reporting survey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ong with the regular Nodal Delivery Status, ERCOT will report on Market and ERCOT readiness to TPTF, TAC, and the BoD on a monthly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Participants wil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view of upcoming metrics well in advance of repo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advance notice of any “RED” metrics from the NODAL team in advance of reporting to B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help from the NODAL team to achieve “GREEN” readiness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67320" y="173160"/>
            <a:ext cx="2718000" cy="41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2C67-AA56-4A95-A031-884F226745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Readiness Map Shows Metrics Overlaid Across the Nodal Delivery Char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77920" y="685800"/>
            <a:ext cx="8729640" cy="5597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06440" y="5397480"/>
            <a:ext cx="4483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Cs:  Chris Wilkinson, 512 248 4214 Pri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 Pare, 512 248 6367 Alter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78CC-8BD0-4B4C-B6FA-C7EE1E54990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adiness Metrics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Key Events and Milest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367320" y="173160"/>
            <a:ext cx="2718000" cy="417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00200" y="4888080"/>
            <a:ext cx="8010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98520" y="4888080"/>
            <a:ext cx="125640" cy="36828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612360" y="4155840"/>
            <a:ext cx="149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PTF Appro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13000" y="4890960"/>
            <a:ext cx="123840" cy="36828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1647720" y="4187160"/>
            <a:ext cx="14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C Appro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45000" y="4886280"/>
            <a:ext cx="125640" cy="36828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4748760" y="4145760"/>
            <a:ext cx="151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Rel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71760" y="4890960"/>
            <a:ext cx="123840" cy="36828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2726280" y="4188240"/>
            <a:ext cx="141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PTF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11720" y="4888080"/>
            <a:ext cx="123840" cy="36828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3620520" y="4159080"/>
            <a:ext cx="149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PTF Appro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33880" y="4886280"/>
            <a:ext cx="123840" cy="36828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4376520" y="4175280"/>
            <a:ext cx="14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C Appro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42040" y="4888080"/>
            <a:ext cx="123840" cy="36828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6450840" y="4136400"/>
            <a:ext cx="151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Rel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78520" y="4890960"/>
            <a:ext cx="123840" cy="36828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5331240" y="4197960"/>
            <a:ext cx="141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PTF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16600" y="4888080"/>
            <a:ext cx="123840" cy="36828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6122520" y="4145760"/>
            <a:ext cx="149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PTF Appro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66120" y="4888080"/>
            <a:ext cx="123840" cy="36828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6906960" y="4184640"/>
            <a:ext cx="14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C Appro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39600" y="518004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42920" y="518004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9680" y="3786120"/>
            <a:ext cx="8807400" cy="18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117360" y="5235480"/>
            <a:ext cx="143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508800" y="1916280"/>
            <a:ext cx="2582640" cy="693000"/>
            <a:chOff x="6508800" y="1916280"/>
            <a:chExt cx="2582640" cy="693000"/>
          </a:xfrm>
        </p:grpSpPr>
        <p:sp>
          <p:nvSpPr>
            <p:cNvPr id="178" name=""/>
            <p:cNvSpPr/>
            <p:nvPr/>
          </p:nvSpPr>
          <p:spPr>
            <a:xfrm>
              <a:off x="6648480" y="2322360"/>
              <a:ext cx="122040" cy="96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48480" y="2462040"/>
              <a:ext cx="122040" cy="964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09160" y="2266920"/>
              <a:ext cx="251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ithin 30 days of planned milestone da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20680" y="2393640"/>
              <a:ext cx="1220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n schedu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48480" y="2170080"/>
              <a:ext cx="122040" cy="9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08800" y="2114280"/>
              <a:ext cx="2582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re than 30 days from planned milest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80080" y="1916280"/>
              <a:ext cx="31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3280" indent="-23328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√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19960" y="1962000"/>
              <a:ext cx="1549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lestone Comple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921040" y="520236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36960" y="521496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22760" y="521496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41800" y="521496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7920" y="521496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54800" y="522432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54920" y="3782880"/>
            <a:ext cx="0" cy="1833840"/>
          </a:xfrm>
          <a:prstGeom prst="line">
            <a:avLst/>
          </a:prstGeom>
          <a:ln w="381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71680" y="5303880"/>
            <a:ext cx="15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 of 9/28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202680" y="5919840"/>
            <a:ext cx="956412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Market Readiness capability progressing against plan. Actively monitoring 13 metrics with another 7 on-line by end of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47600" y="836640"/>
          <a:ext cx="8829720" cy="2119320"/>
        </p:xfrm>
        <a:graphic>
          <a:graphicData uri="http://schemas.openxmlformats.org/drawingml/2006/table">
            <a:tbl>
              <a:tblPr/>
              <a:tblGrid>
                <a:gridCol w="936720"/>
                <a:gridCol w="2468520"/>
                <a:gridCol w="1332000"/>
                <a:gridCol w="1333440"/>
                <a:gridCol w="966600"/>
                <a:gridCol w="1792440"/>
              </a:tblGrid>
              <a:tr h="3682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TF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TF Appro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 Appro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le in Scorec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a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23/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23/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/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7/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a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2, MP3, MP5, MP11, MP13, E1, E6, E8, E9, N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13/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7 – 8/29/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6/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September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ation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6, E3, E5, EMO9, N2, N3, MO4, MO5, MP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0 – 9/11/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4 – 9/26/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5/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End November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138240" y="3394080"/>
            <a:ext cx="8829720" cy="387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1320" y="3403440"/>
            <a:ext cx="18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1787-A0D3-4E19-963E-927026D63BD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rket Readiness Update – Scorecard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1360" y="804960"/>
            <a:ext cx="6129360" cy="5354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67320" y="173160"/>
            <a:ext cx="2718000" cy="417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392880" y="1936800"/>
            <a:ext cx="26067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orecard.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able Executive login available from ERCOT Clien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metrics available this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drill-downs to Market Participant-specif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112A-0EEA-48B3-9E9A-9C83EEFAC8C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rket Readiness – 3 Month Planning Horiz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367320" y="173160"/>
            <a:ext cx="2718000" cy="4172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609200" y="5691240"/>
            <a:ext cx="625716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Delivery and Readiness metrics rolling into Readiness Scoreca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Market Participant Engagement results available now on NODAL.ERCO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04040" y="204840"/>
            <a:ext cx="547560" cy="36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95960" y="198360"/>
            <a:ext cx="547920" cy="36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807320" y="198360"/>
            <a:ext cx="547560" cy="36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280" y="814320"/>
          <a:ext cx="8686800" cy="4821480"/>
        </p:xfrm>
        <a:graphic>
          <a:graphicData uri="http://schemas.openxmlformats.org/drawingml/2006/table">
            <a:tbl>
              <a:tblPr/>
              <a:tblGrid>
                <a:gridCol w="990720"/>
                <a:gridCol w="2565360"/>
                <a:gridCol w="2565360"/>
                <a:gridCol w="25653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DAL Deli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RCOT Read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Participant Read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3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ly Measu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etry Alarm Proces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etry / ICCP System Fail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Training (EDS 1 &amp; 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 NODAL Operating Gui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Staffed for NODAL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dure Develo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Participant Engage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ectivity to EDS Envir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s with Resources Upload SCED to E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CCP Point to Point Telemetry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 and TSP Telemetry / ICCP System Avai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ration Activ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o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ED Exec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Training (EDS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S2 Market Trials Particip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Participant Engagement (2nd surve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e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ED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idate Security Analysis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e Estimator Performance and Accur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S3-Related Market Participant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45F73-2E25-4855-8E97-9F685B11EDE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ers Coln  / Tim Pare</dc:creator>
  <dc:description/>
  <dc:language>en-US</dc:language>
  <cp:lastModifiedBy>balbracht</cp:lastModifiedBy>
  <dcterms:modified xsi:type="dcterms:W3CDTF">2007-10-02T15:30:42Z</dcterms:modified>
  <cp:revision>346</cp:revision>
  <dc:subject>TAC Update</dc:subject>
  <dc:title>Texas Nodal Market Implementation</dc:title>
</cp:coreProperties>
</file>